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A21CC-6E0F-4F00-9E35-847795B87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title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title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title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title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title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title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title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title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title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title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title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title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title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title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title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title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title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title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title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0052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152280" y="96840"/>
            <a:ext cx="8839440" cy="5946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676520" y="1219320"/>
            <a:ext cx="58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iends, Fri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" action="ppaction://hlinkshowjump?jump=endshow"/>
          </p:cNvPr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6858000" y="617220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3794"/>
                </a:moveTo>
                <a:lnTo>
                  <a:pt x="22606" y="10800"/>
                </a:lnTo>
                <a:lnTo>
                  <a:pt x="8593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676520" y="1219320"/>
            <a:ext cx="5867280" cy="28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iends, friends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h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do w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" action="ppaction://hlinkshowjump?jump=endshow"/>
          </p:cNvPr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" action="ppaction://hlinkshowjump?jump=nextslide"/>
          </p:cNvPr>
          <p:cNvSpPr/>
          <p:nvPr/>
        </p:nvSpPr>
        <p:spPr>
          <a:xfrm>
            <a:off x="6019920" y="6172200"/>
            <a:ext cx="990360" cy="685800"/>
          </a:xfrm>
          <a:custGeom>
            <a:avLst/>
            <a:gdLst>
              <a:gd name="textAreaLeft" fmla="*/ 44280 w 990360"/>
              <a:gd name="textAreaRight" fmla="*/ 946080 w 990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87" h="21600">
                <a:moveTo>
                  <a:pt x="0" y="0"/>
                </a:moveTo>
                <a:lnTo>
                  <a:pt x="31187" y="0"/>
                </a:lnTo>
                <a:lnTo>
                  <a:pt x="31187" y="21600"/>
                </a:lnTo>
                <a:lnTo>
                  <a:pt x="0" y="21600"/>
                </a:lnTo>
                <a:close/>
              </a:path>
              <a:path fill="lightenLess" w="31187" h="21600">
                <a:moveTo>
                  <a:pt x="0" y="0"/>
                </a:moveTo>
                <a:lnTo>
                  <a:pt x="31187" y="0"/>
                </a:lnTo>
                <a:lnTo>
                  <a:pt x="29787" y="1400"/>
                </a:lnTo>
                <a:lnTo>
                  <a:pt x="1400" y="1400"/>
                </a:lnTo>
                <a:close/>
              </a:path>
              <a:path fill="darken" w="31187" h="21600">
                <a:moveTo>
                  <a:pt x="31187" y="0"/>
                </a:moveTo>
                <a:lnTo>
                  <a:pt x="31187" y="21600"/>
                </a:lnTo>
                <a:lnTo>
                  <a:pt x="29787" y="20200"/>
                </a:lnTo>
                <a:lnTo>
                  <a:pt x="29787" y="1400"/>
                </a:lnTo>
                <a:close/>
              </a:path>
              <a:path fill="darkenLess" w="31187" h="21600">
                <a:moveTo>
                  <a:pt x="31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7" y="20200"/>
                </a:lnTo>
                <a:close/>
              </a:path>
              <a:path fill="lighten" w="31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7" h="21600">
                <a:moveTo>
                  <a:pt x="8587" y="3794"/>
                </a:moveTo>
                <a:lnTo>
                  <a:pt x="22600" y="10800"/>
                </a:lnTo>
                <a:lnTo>
                  <a:pt x="8587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" action="ppaction://hlinkshowjump?jump=previousslide"/>
          </p:cNvPr>
          <p:cNvSpPr/>
          <p:nvPr/>
        </p:nvSpPr>
        <p:spPr>
          <a:xfrm>
            <a:off x="1828800" y="617220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10800"/>
                </a:moveTo>
                <a:lnTo>
                  <a:pt x="22606" y="3794"/>
                </a:lnTo>
                <a:lnTo>
                  <a:pt x="2260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>
            <a:hlinkClick r:id="" action="ppaction://hlinkshowjump?jump=endshow"/>
          </p:cNvPr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6019920" y="6172200"/>
            <a:ext cx="990360" cy="685800"/>
          </a:xfrm>
          <a:custGeom>
            <a:avLst/>
            <a:gdLst>
              <a:gd name="textAreaLeft" fmla="*/ 44280 w 990360"/>
              <a:gd name="textAreaRight" fmla="*/ 946080 w 990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87" h="21600">
                <a:moveTo>
                  <a:pt x="0" y="0"/>
                </a:moveTo>
                <a:lnTo>
                  <a:pt x="31187" y="0"/>
                </a:lnTo>
                <a:lnTo>
                  <a:pt x="31187" y="21600"/>
                </a:lnTo>
                <a:lnTo>
                  <a:pt x="0" y="21600"/>
                </a:lnTo>
                <a:close/>
              </a:path>
              <a:path fill="lightenLess" w="31187" h="21600">
                <a:moveTo>
                  <a:pt x="0" y="0"/>
                </a:moveTo>
                <a:lnTo>
                  <a:pt x="31187" y="0"/>
                </a:lnTo>
                <a:lnTo>
                  <a:pt x="29787" y="1400"/>
                </a:lnTo>
                <a:lnTo>
                  <a:pt x="1400" y="1400"/>
                </a:lnTo>
                <a:close/>
              </a:path>
              <a:path fill="darken" w="31187" h="21600">
                <a:moveTo>
                  <a:pt x="31187" y="0"/>
                </a:moveTo>
                <a:lnTo>
                  <a:pt x="31187" y="21600"/>
                </a:lnTo>
                <a:lnTo>
                  <a:pt x="29787" y="20200"/>
                </a:lnTo>
                <a:lnTo>
                  <a:pt x="29787" y="1400"/>
                </a:lnTo>
                <a:close/>
              </a:path>
              <a:path fill="darkenLess" w="31187" h="21600">
                <a:moveTo>
                  <a:pt x="31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7" y="20200"/>
                </a:lnTo>
                <a:close/>
              </a:path>
              <a:path fill="lighten" w="31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7" h="21600">
                <a:moveTo>
                  <a:pt x="8587" y="3794"/>
                </a:moveTo>
                <a:lnTo>
                  <a:pt x="22600" y="10800"/>
                </a:lnTo>
                <a:lnTo>
                  <a:pt x="8587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" action="ppaction://hlinkshowjump?jump=previousslide"/>
          </p:cNvPr>
          <p:cNvSpPr/>
          <p:nvPr/>
        </p:nvSpPr>
        <p:spPr>
          <a:xfrm>
            <a:off x="1828800" y="617220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10800"/>
                </a:moveTo>
                <a:lnTo>
                  <a:pt x="22606" y="3794"/>
                </a:lnTo>
                <a:lnTo>
                  <a:pt x="2260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29720" y="1143000"/>
            <a:ext cx="257652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se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insle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oking 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676520" y="1219320"/>
            <a:ext cx="5867280" cy="28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iends, friends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h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do w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endshow"/>
          </p:cNvPr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" action="ppaction://hlinkshowjump?jump=nextslide"/>
          </p:cNvPr>
          <p:cNvSpPr/>
          <p:nvPr/>
        </p:nvSpPr>
        <p:spPr>
          <a:xfrm>
            <a:off x="6019920" y="6172200"/>
            <a:ext cx="990360" cy="685800"/>
          </a:xfrm>
          <a:custGeom>
            <a:avLst/>
            <a:gdLst>
              <a:gd name="textAreaLeft" fmla="*/ 44280 w 990360"/>
              <a:gd name="textAreaRight" fmla="*/ 946080 w 990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87" h="21600">
                <a:moveTo>
                  <a:pt x="0" y="0"/>
                </a:moveTo>
                <a:lnTo>
                  <a:pt x="31187" y="0"/>
                </a:lnTo>
                <a:lnTo>
                  <a:pt x="31187" y="21600"/>
                </a:lnTo>
                <a:lnTo>
                  <a:pt x="0" y="21600"/>
                </a:lnTo>
                <a:close/>
              </a:path>
              <a:path fill="lightenLess" w="31187" h="21600">
                <a:moveTo>
                  <a:pt x="0" y="0"/>
                </a:moveTo>
                <a:lnTo>
                  <a:pt x="31187" y="0"/>
                </a:lnTo>
                <a:lnTo>
                  <a:pt x="29787" y="1400"/>
                </a:lnTo>
                <a:lnTo>
                  <a:pt x="1400" y="1400"/>
                </a:lnTo>
                <a:close/>
              </a:path>
              <a:path fill="darken" w="31187" h="21600">
                <a:moveTo>
                  <a:pt x="31187" y="0"/>
                </a:moveTo>
                <a:lnTo>
                  <a:pt x="31187" y="21600"/>
                </a:lnTo>
                <a:lnTo>
                  <a:pt x="29787" y="20200"/>
                </a:lnTo>
                <a:lnTo>
                  <a:pt x="29787" y="1400"/>
                </a:lnTo>
                <a:close/>
              </a:path>
              <a:path fill="darkenLess" w="31187" h="21600">
                <a:moveTo>
                  <a:pt x="31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7" y="20200"/>
                </a:lnTo>
                <a:close/>
              </a:path>
              <a:path fill="lighten" w="31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7" h="21600">
                <a:moveTo>
                  <a:pt x="8587" y="3794"/>
                </a:moveTo>
                <a:lnTo>
                  <a:pt x="22600" y="10800"/>
                </a:lnTo>
                <a:lnTo>
                  <a:pt x="8587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previousslide"/>
          </p:cNvPr>
          <p:cNvSpPr/>
          <p:nvPr/>
        </p:nvSpPr>
        <p:spPr>
          <a:xfrm>
            <a:off x="1828800" y="617220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10800"/>
                </a:moveTo>
                <a:lnTo>
                  <a:pt x="22606" y="3794"/>
                </a:lnTo>
                <a:lnTo>
                  <a:pt x="2260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>
            <a:hlinkClick r:id="" action="ppaction://hlinkshowjump?jump=endshow"/>
          </p:cNvPr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nextslide"/>
          </p:cNvPr>
          <p:cNvSpPr/>
          <p:nvPr/>
        </p:nvSpPr>
        <p:spPr>
          <a:xfrm>
            <a:off x="6019920" y="6172200"/>
            <a:ext cx="990360" cy="685800"/>
          </a:xfrm>
          <a:custGeom>
            <a:avLst/>
            <a:gdLst>
              <a:gd name="textAreaLeft" fmla="*/ 44280 w 990360"/>
              <a:gd name="textAreaRight" fmla="*/ 946080 w 990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87" h="21600">
                <a:moveTo>
                  <a:pt x="0" y="0"/>
                </a:moveTo>
                <a:lnTo>
                  <a:pt x="31187" y="0"/>
                </a:lnTo>
                <a:lnTo>
                  <a:pt x="31187" y="21600"/>
                </a:lnTo>
                <a:lnTo>
                  <a:pt x="0" y="21600"/>
                </a:lnTo>
                <a:close/>
              </a:path>
              <a:path fill="lightenLess" w="31187" h="21600">
                <a:moveTo>
                  <a:pt x="0" y="0"/>
                </a:moveTo>
                <a:lnTo>
                  <a:pt x="31187" y="0"/>
                </a:lnTo>
                <a:lnTo>
                  <a:pt x="29787" y="1400"/>
                </a:lnTo>
                <a:lnTo>
                  <a:pt x="1400" y="1400"/>
                </a:lnTo>
                <a:close/>
              </a:path>
              <a:path fill="darken" w="31187" h="21600">
                <a:moveTo>
                  <a:pt x="31187" y="0"/>
                </a:moveTo>
                <a:lnTo>
                  <a:pt x="31187" y="21600"/>
                </a:lnTo>
                <a:lnTo>
                  <a:pt x="29787" y="20200"/>
                </a:lnTo>
                <a:lnTo>
                  <a:pt x="29787" y="1400"/>
                </a:lnTo>
                <a:close/>
              </a:path>
              <a:path fill="darkenLess" w="31187" h="21600">
                <a:moveTo>
                  <a:pt x="31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7" y="20200"/>
                </a:lnTo>
                <a:close/>
              </a:path>
              <a:path fill="lighten" w="31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7" h="21600">
                <a:moveTo>
                  <a:pt x="8587" y="3794"/>
                </a:moveTo>
                <a:lnTo>
                  <a:pt x="22600" y="10800"/>
                </a:lnTo>
                <a:lnTo>
                  <a:pt x="8587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" action="ppaction://hlinkshowjump?jump=previousslide"/>
          </p:cNvPr>
          <p:cNvSpPr/>
          <p:nvPr/>
        </p:nvSpPr>
        <p:spPr>
          <a:xfrm>
            <a:off x="1828800" y="617220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10800"/>
                </a:moveTo>
                <a:lnTo>
                  <a:pt x="22606" y="3794"/>
                </a:lnTo>
                <a:lnTo>
                  <a:pt x="2260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29720" y="1143000"/>
            <a:ext cx="257652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se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Jam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oking 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676520" y="1219320"/>
            <a:ext cx="5867280" cy="28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iends, friends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h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do w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" action="ppaction://hlinkshowjump?jump=endshow"/>
          </p:cNvPr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nextslide"/>
          </p:cNvPr>
          <p:cNvSpPr/>
          <p:nvPr/>
        </p:nvSpPr>
        <p:spPr>
          <a:xfrm>
            <a:off x="6019920" y="6172200"/>
            <a:ext cx="990360" cy="685800"/>
          </a:xfrm>
          <a:custGeom>
            <a:avLst/>
            <a:gdLst>
              <a:gd name="textAreaLeft" fmla="*/ 44280 w 990360"/>
              <a:gd name="textAreaRight" fmla="*/ 946080 w 990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87" h="21600">
                <a:moveTo>
                  <a:pt x="0" y="0"/>
                </a:moveTo>
                <a:lnTo>
                  <a:pt x="31187" y="0"/>
                </a:lnTo>
                <a:lnTo>
                  <a:pt x="31187" y="21600"/>
                </a:lnTo>
                <a:lnTo>
                  <a:pt x="0" y="21600"/>
                </a:lnTo>
                <a:close/>
              </a:path>
              <a:path fill="lightenLess" w="31187" h="21600">
                <a:moveTo>
                  <a:pt x="0" y="0"/>
                </a:moveTo>
                <a:lnTo>
                  <a:pt x="31187" y="0"/>
                </a:lnTo>
                <a:lnTo>
                  <a:pt x="29787" y="1400"/>
                </a:lnTo>
                <a:lnTo>
                  <a:pt x="1400" y="1400"/>
                </a:lnTo>
                <a:close/>
              </a:path>
              <a:path fill="darken" w="31187" h="21600">
                <a:moveTo>
                  <a:pt x="31187" y="0"/>
                </a:moveTo>
                <a:lnTo>
                  <a:pt x="31187" y="21600"/>
                </a:lnTo>
                <a:lnTo>
                  <a:pt x="29787" y="20200"/>
                </a:lnTo>
                <a:lnTo>
                  <a:pt x="29787" y="1400"/>
                </a:lnTo>
                <a:close/>
              </a:path>
              <a:path fill="darkenLess" w="31187" h="21600">
                <a:moveTo>
                  <a:pt x="31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7" y="20200"/>
                </a:lnTo>
                <a:close/>
              </a:path>
              <a:path fill="lighten" w="31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7" h="21600">
                <a:moveTo>
                  <a:pt x="8587" y="3794"/>
                </a:moveTo>
                <a:lnTo>
                  <a:pt x="22600" y="10800"/>
                </a:lnTo>
                <a:lnTo>
                  <a:pt x="8587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" action="ppaction://hlinkshowjump?jump=previousslide"/>
          </p:cNvPr>
          <p:cNvSpPr/>
          <p:nvPr/>
        </p:nvSpPr>
        <p:spPr>
          <a:xfrm>
            <a:off x="1828800" y="617220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10800"/>
                </a:moveTo>
                <a:lnTo>
                  <a:pt x="22606" y="3794"/>
                </a:lnTo>
                <a:lnTo>
                  <a:pt x="2260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>
            <a:hlinkClick r:id="" action="ppaction://hlinkshowjump?jump=endshow"/>
          </p:cNvPr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nextslide"/>
          </p:cNvPr>
          <p:cNvSpPr/>
          <p:nvPr/>
        </p:nvSpPr>
        <p:spPr>
          <a:xfrm>
            <a:off x="6019920" y="6172200"/>
            <a:ext cx="990360" cy="685800"/>
          </a:xfrm>
          <a:custGeom>
            <a:avLst/>
            <a:gdLst>
              <a:gd name="textAreaLeft" fmla="*/ 44280 w 990360"/>
              <a:gd name="textAreaRight" fmla="*/ 946080 w 990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87" h="21600">
                <a:moveTo>
                  <a:pt x="0" y="0"/>
                </a:moveTo>
                <a:lnTo>
                  <a:pt x="31187" y="0"/>
                </a:lnTo>
                <a:lnTo>
                  <a:pt x="31187" y="21600"/>
                </a:lnTo>
                <a:lnTo>
                  <a:pt x="0" y="21600"/>
                </a:lnTo>
                <a:close/>
              </a:path>
              <a:path fill="lightenLess" w="31187" h="21600">
                <a:moveTo>
                  <a:pt x="0" y="0"/>
                </a:moveTo>
                <a:lnTo>
                  <a:pt x="31187" y="0"/>
                </a:lnTo>
                <a:lnTo>
                  <a:pt x="29787" y="1400"/>
                </a:lnTo>
                <a:lnTo>
                  <a:pt x="1400" y="1400"/>
                </a:lnTo>
                <a:close/>
              </a:path>
              <a:path fill="darken" w="31187" h="21600">
                <a:moveTo>
                  <a:pt x="31187" y="0"/>
                </a:moveTo>
                <a:lnTo>
                  <a:pt x="31187" y="21600"/>
                </a:lnTo>
                <a:lnTo>
                  <a:pt x="29787" y="20200"/>
                </a:lnTo>
                <a:lnTo>
                  <a:pt x="29787" y="1400"/>
                </a:lnTo>
                <a:close/>
              </a:path>
              <a:path fill="darkenLess" w="31187" h="21600">
                <a:moveTo>
                  <a:pt x="31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7" y="20200"/>
                </a:lnTo>
                <a:close/>
              </a:path>
              <a:path fill="lighten" w="31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7" h="21600">
                <a:moveTo>
                  <a:pt x="8587" y="3794"/>
                </a:moveTo>
                <a:lnTo>
                  <a:pt x="22600" y="10800"/>
                </a:lnTo>
                <a:lnTo>
                  <a:pt x="8587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" action="ppaction://hlinkshowjump?jump=previousslide"/>
          </p:cNvPr>
          <p:cNvSpPr/>
          <p:nvPr/>
        </p:nvSpPr>
        <p:spPr>
          <a:xfrm>
            <a:off x="1828800" y="617220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10800"/>
                </a:moveTo>
                <a:lnTo>
                  <a:pt x="22606" y="3794"/>
                </a:lnTo>
                <a:lnTo>
                  <a:pt x="2260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720" y="1143000"/>
            <a:ext cx="257652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se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oking 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676520" y="1219320"/>
            <a:ext cx="5867280" cy="28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iends, friends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h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do w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endshow"/>
          </p:cNvPr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" action="ppaction://hlinkshowjump?jump=nextslide"/>
          </p:cNvPr>
          <p:cNvSpPr/>
          <p:nvPr/>
        </p:nvSpPr>
        <p:spPr>
          <a:xfrm>
            <a:off x="6019920" y="6172200"/>
            <a:ext cx="990360" cy="685800"/>
          </a:xfrm>
          <a:custGeom>
            <a:avLst/>
            <a:gdLst>
              <a:gd name="textAreaLeft" fmla="*/ 44280 w 990360"/>
              <a:gd name="textAreaRight" fmla="*/ 946080 w 990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87" h="21600">
                <a:moveTo>
                  <a:pt x="0" y="0"/>
                </a:moveTo>
                <a:lnTo>
                  <a:pt x="31187" y="0"/>
                </a:lnTo>
                <a:lnTo>
                  <a:pt x="31187" y="21600"/>
                </a:lnTo>
                <a:lnTo>
                  <a:pt x="0" y="21600"/>
                </a:lnTo>
                <a:close/>
              </a:path>
              <a:path fill="lightenLess" w="31187" h="21600">
                <a:moveTo>
                  <a:pt x="0" y="0"/>
                </a:moveTo>
                <a:lnTo>
                  <a:pt x="31187" y="0"/>
                </a:lnTo>
                <a:lnTo>
                  <a:pt x="29787" y="1400"/>
                </a:lnTo>
                <a:lnTo>
                  <a:pt x="1400" y="1400"/>
                </a:lnTo>
                <a:close/>
              </a:path>
              <a:path fill="darken" w="31187" h="21600">
                <a:moveTo>
                  <a:pt x="31187" y="0"/>
                </a:moveTo>
                <a:lnTo>
                  <a:pt x="31187" y="21600"/>
                </a:lnTo>
                <a:lnTo>
                  <a:pt x="29787" y="20200"/>
                </a:lnTo>
                <a:lnTo>
                  <a:pt x="29787" y="1400"/>
                </a:lnTo>
                <a:close/>
              </a:path>
              <a:path fill="darkenLess" w="31187" h="21600">
                <a:moveTo>
                  <a:pt x="31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7" y="20200"/>
                </a:lnTo>
                <a:close/>
              </a:path>
              <a:path fill="lighten" w="31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7" h="21600">
                <a:moveTo>
                  <a:pt x="8587" y="3794"/>
                </a:moveTo>
                <a:lnTo>
                  <a:pt x="22600" y="10800"/>
                </a:lnTo>
                <a:lnTo>
                  <a:pt x="8587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" action="ppaction://hlinkshowjump?jump=previousslide"/>
          </p:cNvPr>
          <p:cNvSpPr/>
          <p:nvPr/>
        </p:nvSpPr>
        <p:spPr>
          <a:xfrm>
            <a:off x="1828800" y="617220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10800"/>
                </a:moveTo>
                <a:lnTo>
                  <a:pt x="22606" y="3794"/>
                </a:lnTo>
                <a:lnTo>
                  <a:pt x="2260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>
            <a:hlinkClick r:id="" action="ppaction://hlinkshowjump?jump=endshow"/>
          </p:cNvPr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6019920" y="6172200"/>
            <a:ext cx="990360" cy="685800"/>
          </a:xfrm>
          <a:custGeom>
            <a:avLst/>
            <a:gdLst>
              <a:gd name="textAreaLeft" fmla="*/ 44280 w 990360"/>
              <a:gd name="textAreaRight" fmla="*/ 946080 w 990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87" h="21600">
                <a:moveTo>
                  <a:pt x="0" y="0"/>
                </a:moveTo>
                <a:lnTo>
                  <a:pt x="31187" y="0"/>
                </a:lnTo>
                <a:lnTo>
                  <a:pt x="31187" y="21600"/>
                </a:lnTo>
                <a:lnTo>
                  <a:pt x="0" y="21600"/>
                </a:lnTo>
                <a:close/>
              </a:path>
              <a:path fill="lightenLess" w="31187" h="21600">
                <a:moveTo>
                  <a:pt x="0" y="0"/>
                </a:moveTo>
                <a:lnTo>
                  <a:pt x="31187" y="0"/>
                </a:lnTo>
                <a:lnTo>
                  <a:pt x="29787" y="1400"/>
                </a:lnTo>
                <a:lnTo>
                  <a:pt x="1400" y="1400"/>
                </a:lnTo>
                <a:close/>
              </a:path>
              <a:path fill="darken" w="31187" h="21600">
                <a:moveTo>
                  <a:pt x="31187" y="0"/>
                </a:moveTo>
                <a:lnTo>
                  <a:pt x="31187" y="21600"/>
                </a:lnTo>
                <a:lnTo>
                  <a:pt x="29787" y="20200"/>
                </a:lnTo>
                <a:lnTo>
                  <a:pt x="29787" y="1400"/>
                </a:lnTo>
                <a:close/>
              </a:path>
              <a:path fill="darkenLess" w="31187" h="21600">
                <a:moveTo>
                  <a:pt x="31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7" y="20200"/>
                </a:lnTo>
                <a:close/>
              </a:path>
              <a:path fill="lighten" w="31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7" h="21600">
                <a:moveTo>
                  <a:pt x="8587" y="3794"/>
                </a:moveTo>
                <a:lnTo>
                  <a:pt x="22600" y="10800"/>
                </a:lnTo>
                <a:lnTo>
                  <a:pt x="8587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" action="ppaction://hlinkshowjump?jump=previousslide"/>
          </p:cNvPr>
          <p:cNvSpPr/>
          <p:nvPr/>
        </p:nvSpPr>
        <p:spPr>
          <a:xfrm>
            <a:off x="1828800" y="617220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10800"/>
                </a:moveTo>
                <a:lnTo>
                  <a:pt x="22606" y="3794"/>
                </a:lnTo>
                <a:lnTo>
                  <a:pt x="2260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29720" y="1143000"/>
            <a:ext cx="257652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se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ery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oking 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676520" y="1219320"/>
            <a:ext cx="5867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endshow"/>
          </p:cNvPr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nextslide"/>
          </p:cNvPr>
          <p:cNvSpPr/>
          <p:nvPr/>
        </p:nvSpPr>
        <p:spPr>
          <a:xfrm>
            <a:off x="6019920" y="6172200"/>
            <a:ext cx="990360" cy="685800"/>
          </a:xfrm>
          <a:custGeom>
            <a:avLst/>
            <a:gdLst>
              <a:gd name="textAreaLeft" fmla="*/ 44280 w 990360"/>
              <a:gd name="textAreaRight" fmla="*/ 946080 w 990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87" h="21600">
                <a:moveTo>
                  <a:pt x="0" y="0"/>
                </a:moveTo>
                <a:lnTo>
                  <a:pt x="31187" y="0"/>
                </a:lnTo>
                <a:lnTo>
                  <a:pt x="31187" y="21600"/>
                </a:lnTo>
                <a:lnTo>
                  <a:pt x="0" y="21600"/>
                </a:lnTo>
                <a:close/>
              </a:path>
              <a:path fill="lightenLess" w="31187" h="21600">
                <a:moveTo>
                  <a:pt x="0" y="0"/>
                </a:moveTo>
                <a:lnTo>
                  <a:pt x="31187" y="0"/>
                </a:lnTo>
                <a:lnTo>
                  <a:pt x="29787" y="1400"/>
                </a:lnTo>
                <a:lnTo>
                  <a:pt x="1400" y="1400"/>
                </a:lnTo>
                <a:close/>
              </a:path>
              <a:path fill="darken" w="31187" h="21600">
                <a:moveTo>
                  <a:pt x="31187" y="0"/>
                </a:moveTo>
                <a:lnTo>
                  <a:pt x="31187" y="21600"/>
                </a:lnTo>
                <a:lnTo>
                  <a:pt x="29787" y="20200"/>
                </a:lnTo>
                <a:lnTo>
                  <a:pt x="29787" y="1400"/>
                </a:lnTo>
                <a:close/>
              </a:path>
              <a:path fill="darkenLess" w="31187" h="21600">
                <a:moveTo>
                  <a:pt x="31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7" y="20200"/>
                </a:lnTo>
                <a:close/>
              </a:path>
              <a:path fill="lighten" w="31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7" h="21600">
                <a:moveTo>
                  <a:pt x="8587" y="3794"/>
                </a:moveTo>
                <a:lnTo>
                  <a:pt x="22600" y="10800"/>
                </a:lnTo>
                <a:lnTo>
                  <a:pt x="8587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" action="ppaction://hlinkshowjump?jump=previousslide"/>
          </p:cNvPr>
          <p:cNvSpPr/>
          <p:nvPr/>
        </p:nvSpPr>
        <p:spPr>
          <a:xfrm>
            <a:off x="1828800" y="617220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10800"/>
                </a:moveTo>
                <a:lnTo>
                  <a:pt x="22606" y="3794"/>
                </a:lnTo>
                <a:lnTo>
                  <a:pt x="2260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676520" y="1219320"/>
            <a:ext cx="5867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" action="ppaction://hlinkshowjump?jump=endshow"/>
          </p:cNvPr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" action="ppaction://hlinkshowjump?jump=nextslide"/>
          </p:cNvPr>
          <p:cNvSpPr/>
          <p:nvPr/>
        </p:nvSpPr>
        <p:spPr>
          <a:xfrm>
            <a:off x="6019920" y="6172200"/>
            <a:ext cx="990360" cy="685800"/>
          </a:xfrm>
          <a:custGeom>
            <a:avLst/>
            <a:gdLst>
              <a:gd name="textAreaLeft" fmla="*/ 44280 w 990360"/>
              <a:gd name="textAreaRight" fmla="*/ 946080 w 990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87" h="21600">
                <a:moveTo>
                  <a:pt x="0" y="0"/>
                </a:moveTo>
                <a:lnTo>
                  <a:pt x="31187" y="0"/>
                </a:lnTo>
                <a:lnTo>
                  <a:pt x="31187" y="21600"/>
                </a:lnTo>
                <a:lnTo>
                  <a:pt x="0" y="21600"/>
                </a:lnTo>
                <a:close/>
              </a:path>
              <a:path fill="lightenLess" w="31187" h="21600">
                <a:moveTo>
                  <a:pt x="0" y="0"/>
                </a:moveTo>
                <a:lnTo>
                  <a:pt x="31187" y="0"/>
                </a:lnTo>
                <a:lnTo>
                  <a:pt x="29787" y="1400"/>
                </a:lnTo>
                <a:lnTo>
                  <a:pt x="1400" y="1400"/>
                </a:lnTo>
                <a:close/>
              </a:path>
              <a:path fill="darken" w="31187" h="21600">
                <a:moveTo>
                  <a:pt x="31187" y="0"/>
                </a:moveTo>
                <a:lnTo>
                  <a:pt x="31187" y="21600"/>
                </a:lnTo>
                <a:lnTo>
                  <a:pt x="29787" y="20200"/>
                </a:lnTo>
                <a:lnTo>
                  <a:pt x="29787" y="1400"/>
                </a:lnTo>
                <a:close/>
              </a:path>
              <a:path fill="darkenLess" w="31187" h="21600">
                <a:moveTo>
                  <a:pt x="31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7" y="20200"/>
                </a:lnTo>
                <a:close/>
              </a:path>
              <a:path fill="lighten" w="31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7" h="21600">
                <a:moveTo>
                  <a:pt x="8587" y="3794"/>
                </a:moveTo>
                <a:lnTo>
                  <a:pt x="22600" y="10800"/>
                </a:lnTo>
                <a:lnTo>
                  <a:pt x="8587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previousslide"/>
          </p:cNvPr>
          <p:cNvSpPr/>
          <p:nvPr/>
        </p:nvSpPr>
        <p:spPr>
          <a:xfrm>
            <a:off x="1828800" y="617220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10800"/>
                </a:moveTo>
                <a:lnTo>
                  <a:pt x="22606" y="3794"/>
                </a:lnTo>
                <a:lnTo>
                  <a:pt x="2260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76520" y="1219320"/>
            <a:ext cx="5867280" cy="28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iends, friends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h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do w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" action="ppaction://hlinkshowjump?jump=endshow"/>
          </p:cNvPr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6019920" y="6172200"/>
            <a:ext cx="990360" cy="685800"/>
          </a:xfrm>
          <a:custGeom>
            <a:avLst/>
            <a:gdLst>
              <a:gd name="textAreaLeft" fmla="*/ 44280 w 990360"/>
              <a:gd name="textAreaRight" fmla="*/ 946080 w 990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87" h="21600">
                <a:moveTo>
                  <a:pt x="0" y="0"/>
                </a:moveTo>
                <a:lnTo>
                  <a:pt x="31187" y="0"/>
                </a:lnTo>
                <a:lnTo>
                  <a:pt x="31187" y="21600"/>
                </a:lnTo>
                <a:lnTo>
                  <a:pt x="0" y="21600"/>
                </a:lnTo>
                <a:close/>
              </a:path>
              <a:path fill="lightenLess" w="31187" h="21600">
                <a:moveTo>
                  <a:pt x="0" y="0"/>
                </a:moveTo>
                <a:lnTo>
                  <a:pt x="31187" y="0"/>
                </a:lnTo>
                <a:lnTo>
                  <a:pt x="29787" y="1400"/>
                </a:lnTo>
                <a:lnTo>
                  <a:pt x="1400" y="1400"/>
                </a:lnTo>
                <a:close/>
              </a:path>
              <a:path fill="darken" w="31187" h="21600">
                <a:moveTo>
                  <a:pt x="31187" y="0"/>
                </a:moveTo>
                <a:lnTo>
                  <a:pt x="31187" y="21600"/>
                </a:lnTo>
                <a:lnTo>
                  <a:pt x="29787" y="20200"/>
                </a:lnTo>
                <a:lnTo>
                  <a:pt x="29787" y="1400"/>
                </a:lnTo>
                <a:close/>
              </a:path>
              <a:path fill="darkenLess" w="31187" h="21600">
                <a:moveTo>
                  <a:pt x="31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7" y="20200"/>
                </a:lnTo>
                <a:close/>
              </a:path>
              <a:path fill="lighten" w="31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7" h="21600">
                <a:moveTo>
                  <a:pt x="8587" y="3794"/>
                </a:moveTo>
                <a:lnTo>
                  <a:pt x="22600" y="10800"/>
                </a:lnTo>
                <a:lnTo>
                  <a:pt x="8587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" action="ppaction://hlinkshowjump?jump=previousslide"/>
          </p:cNvPr>
          <p:cNvSpPr/>
          <p:nvPr/>
        </p:nvSpPr>
        <p:spPr>
          <a:xfrm>
            <a:off x="1828800" y="617220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10800"/>
                </a:moveTo>
                <a:lnTo>
                  <a:pt x="22606" y="3794"/>
                </a:lnTo>
                <a:lnTo>
                  <a:pt x="2260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>
            <a:hlinkClick r:id="" action="ppaction://hlinkshowjump?jump=endshow"/>
          </p:cNvPr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" action="ppaction://hlinkshowjump?jump=nextslide"/>
          </p:cNvPr>
          <p:cNvSpPr/>
          <p:nvPr/>
        </p:nvSpPr>
        <p:spPr>
          <a:xfrm>
            <a:off x="6019920" y="6172200"/>
            <a:ext cx="990360" cy="685800"/>
          </a:xfrm>
          <a:custGeom>
            <a:avLst/>
            <a:gdLst>
              <a:gd name="textAreaLeft" fmla="*/ 44280 w 990360"/>
              <a:gd name="textAreaRight" fmla="*/ 946080 w 990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87" h="21600">
                <a:moveTo>
                  <a:pt x="0" y="0"/>
                </a:moveTo>
                <a:lnTo>
                  <a:pt x="31187" y="0"/>
                </a:lnTo>
                <a:lnTo>
                  <a:pt x="31187" y="21600"/>
                </a:lnTo>
                <a:lnTo>
                  <a:pt x="0" y="21600"/>
                </a:lnTo>
                <a:close/>
              </a:path>
              <a:path fill="lightenLess" w="31187" h="21600">
                <a:moveTo>
                  <a:pt x="0" y="0"/>
                </a:moveTo>
                <a:lnTo>
                  <a:pt x="31187" y="0"/>
                </a:lnTo>
                <a:lnTo>
                  <a:pt x="29787" y="1400"/>
                </a:lnTo>
                <a:lnTo>
                  <a:pt x="1400" y="1400"/>
                </a:lnTo>
                <a:close/>
              </a:path>
              <a:path fill="darken" w="31187" h="21600">
                <a:moveTo>
                  <a:pt x="31187" y="0"/>
                </a:moveTo>
                <a:lnTo>
                  <a:pt x="31187" y="21600"/>
                </a:lnTo>
                <a:lnTo>
                  <a:pt x="29787" y="20200"/>
                </a:lnTo>
                <a:lnTo>
                  <a:pt x="29787" y="1400"/>
                </a:lnTo>
                <a:close/>
              </a:path>
              <a:path fill="darkenLess" w="31187" h="21600">
                <a:moveTo>
                  <a:pt x="31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7" y="20200"/>
                </a:lnTo>
                <a:close/>
              </a:path>
              <a:path fill="lighten" w="31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7" h="21600">
                <a:moveTo>
                  <a:pt x="8587" y="3794"/>
                </a:moveTo>
                <a:lnTo>
                  <a:pt x="22600" y="10800"/>
                </a:lnTo>
                <a:lnTo>
                  <a:pt x="8587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" action="ppaction://hlinkshowjump?jump=previousslide"/>
          </p:cNvPr>
          <p:cNvSpPr/>
          <p:nvPr/>
        </p:nvSpPr>
        <p:spPr>
          <a:xfrm>
            <a:off x="1828800" y="617220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10800"/>
                </a:moveTo>
                <a:lnTo>
                  <a:pt x="22606" y="3794"/>
                </a:lnTo>
                <a:lnTo>
                  <a:pt x="2260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720" y="1143000"/>
            <a:ext cx="257652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se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a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oking 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676520" y="1219320"/>
            <a:ext cx="5867280" cy="28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iends, friends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h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do w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endshow"/>
          </p:cNvPr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6019920" y="6172200"/>
            <a:ext cx="990360" cy="685800"/>
          </a:xfrm>
          <a:custGeom>
            <a:avLst/>
            <a:gdLst>
              <a:gd name="textAreaLeft" fmla="*/ 44280 w 990360"/>
              <a:gd name="textAreaRight" fmla="*/ 946080 w 990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87" h="21600">
                <a:moveTo>
                  <a:pt x="0" y="0"/>
                </a:moveTo>
                <a:lnTo>
                  <a:pt x="31187" y="0"/>
                </a:lnTo>
                <a:lnTo>
                  <a:pt x="31187" y="21600"/>
                </a:lnTo>
                <a:lnTo>
                  <a:pt x="0" y="21600"/>
                </a:lnTo>
                <a:close/>
              </a:path>
              <a:path fill="lightenLess" w="31187" h="21600">
                <a:moveTo>
                  <a:pt x="0" y="0"/>
                </a:moveTo>
                <a:lnTo>
                  <a:pt x="31187" y="0"/>
                </a:lnTo>
                <a:lnTo>
                  <a:pt x="29787" y="1400"/>
                </a:lnTo>
                <a:lnTo>
                  <a:pt x="1400" y="1400"/>
                </a:lnTo>
                <a:close/>
              </a:path>
              <a:path fill="darken" w="31187" h="21600">
                <a:moveTo>
                  <a:pt x="31187" y="0"/>
                </a:moveTo>
                <a:lnTo>
                  <a:pt x="31187" y="21600"/>
                </a:lnTo>
                <a:lnTo>
                  <a:pt x="29787" y="20200"/>
                </a:lnTo>
                <a:lnTo>
                  <a:pt x="29787" y="1400"/>
                </a:lnTo>
                <a:close/>
              </a:path>
              <a:path fill="darkenLess" w="31187" h="21600">
                <a:moveTo>
                  <a:pt x="31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7" y="20200"/>
                </a:lnTo>
                <a:close/>
              </a:path>
              <a:path fill="lighten" w="31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7" h="21600">
                <a:moveTo>
                  <a:pt x="8587" y="3794"/>
                </a:moveTo>
                <a:lnTo>
                  <a:pt x="22600" y="10800"/>
                </a:lnTo>
                <a:lnTo>
                  <a:pt x="8587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" action="ppaction://hlinkshowjump?jump=previousslide"/>
          </p:cNvPr>
          <p:cNvSpPr/>
          <p:nvPr/>
        </p:nvSpPr>
        <p:spPr>
          <a:xfrm>
            <a:off x="1828800" y="617220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10800"/>
                </a:moveTo>
                <a:lnTo>
                  <a:pt x="22606" y="3794"/>
                </a:lnTo>
                <a:lnTo>
                  <a:pt x="2260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>
            <a:hlinkClick r:id="" action="ppaction://hlinkshowjump?jump=endshow"/>
          </p:cNvPr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" action="ppaction://hlinkshowjump?jump=nextslide"/>
          </p:cNvPr>
          <p:cNvSpPr/>
          <p:nvPr/>
        </p:nvSpPr>
        <p:spPr>
          <a:xfrm>
            <a:off x="6019920" y="6172200"/>
            <a:ext cx="990360" cy="685800"/>
          </a:xfrm>
          <a:custGeom>
            <a:avLst/>
            <a:gdLst>
              <a:gd name="textAreaLeft" fmla="*/ 44280 w 990360"/>
              <a:gd name="textAreaRight" fmla="*/ 946080 w 990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87" h="21600">
                <a:moveTo>
                  <a:pt x="0" y="0"/>
                </a:moveTo>
                <a:lnTo>
                  <a:pt x="31187" y="0"/>
                </a:lnTo>
                <a:lnTo>
                  <a:pt x="31187" y="21600"/>
                </a:lnTo>
                <a:lnTo>
                  <a:pt x="0" y="21600"/>
                </a:lnTo>
                <a:close/>
              </a:path>
              <a:path fill="lightenLess" w="31187" h="21600">
                <a:moveTo>
                  <a:pt x="0" y="0"/>
                </a:moveTo>
                <a:lnTo>
                  <a:pt x="31187" y="0"/>
                </a:lnTo>
                <a:lnTo>
                  <a:pt x="29787" y="1400"/>
                </a:lnTo>
                <a:lnTo>
                  <a:pt x="1400" y="1400"/>
                </a:lnTo>
                <a:close/>
              </a:path>
              <a:path fill="darken" w="31187" h="21600">
                <a:moveTo>
                  <a:pt x="31187" y="0"/>
                </a:moveTo>
                <a:lnTo>
                  <a:pt x="31187" y="21600"/>
                </a:lnTo>
                <a:lnTo>
                  <a:pt x="29787" y="20200"/>
                </a:lnTo>
                <a:lnTo>
                  <a:pt x="29787" y="1400"/>
                </a:lnTo>
                <a:close/>
              </a:path>
              <a:path fill="darkenLess" w="31187" h="21600">
                <a:moveTo>
                  <a:pt x="31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7" y="20200"/>
                </a:lnTo>
                <a:close/>
              </a:path>
              <a:path fill="lighten" w="31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7" h="21600">
                <a:moveTo>
                  <a:pt x="8587" y="3794"/>
                </a:moveTo>
                <a:lnTo>
                  <a:pt x="22600" y="10800"/>
                </a:lnTo>
                <a:lnTo>
                  <a:pt x="8587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" action="ppaction://hlinkshowjump?jump=previousslide"/>
          </p:cNvPr>
          <p:cNvSpPr/>
          <p:nvPr/>
        </p:nvSpPr>
        <p:spPr>
          <a:xfrm>
            <a:off x="1828800" y="617220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10800"/>
                </a:moveTo>
                <a:lnTo>
                  <a:pt x="22606" y="3794"/>
                </a:lnTo>
                <a:lnTo>
                  <a:pt x="2260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720" y="1143000"/>
            <a:ext cx="257652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se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Kas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oking 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676520" y="1219320"/>
            <a:ext cx="5867280" cy="28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iends, friends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h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do w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" action="ppaction://hlinkshowjump?jump=endshow"/>
          </p:cNvPr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" action="ppaction://hlinkshowjump?jump=nextslide"/>
          </p:cNvPr>
          <p:cNvSpPr/>
          <p:nvPr/>
        </p:nvSpPr>
        <p:spPr>
          <a:xfrm>
            <a:off x="6019920" y="6172200"/>
            <a:ext cx="990360" cy="685800"/>
          </a:xfrm>
          <a:custGeom>
            <a:avLst/>
            <a:gdLst>
              <a:gd name="textAreaLeft" fmla="*/ 44280 w 990360"/>
              <a:gd name="textAreaRight" fmla="*/ 946080 w 990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87" h="21600">
                <a:moveTo>
                  <a:pt x="0" y="0"/>
                </a:moveTo>
                <a:lnTo>
                  <a:pt x="31187" y="0"/>
                </a:lnTo>
                <a:lnTo>
                  <a:pt x="31187" y="21600"/>
                </a:lnTo>
                <a:lnTo>
                  <a:pt x="0" y="21600"/>
                </a:lnTo>
                <a:close/>
              </a:path>
              <a:path fill="lightenLess" w="31187" h="21600">
                <a:moveTo>
                  <a:pt x="0" y="0"/>
                </a:moveTo>
                <a:lnTo>
                  <a:pt x="31187" y="0"/>
                </a:lnTo>
                <a:lnTo>
                  <a:pt x="29787" y="1400"/>
                </a:lnTo>
                <a:lnTo>
                  <a:pt x="1400" y="1400"/>
                </a:lnTo>
                <a:close/>
              </a:path>
              <a:path fill="darken" w="31187" h="21600">
                <a:moveTo>
                  <a:pt x="31187" y="0"/>
                </a:moveTo>
                <a:lnTo>
                  <a:pt x="31187" y="21600"/>
                </a:lnTo>
                <a:lnTo>
                  <a:pt x="29787" y="20200"/>
                </a:lnTo>
                <a:lnTo>
                  <a:pt x="29787" y="1400"/>
                </a:lnTo>
                <a:close/>
              </a:path>
              <a:path fill="darkenLess" w="31187" h="21600">
                <a:moveTo>
                  <a:pt x="31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7" y="20200"/>
                </a:lnTo>
                <a:close/>
              </a:path>
              <a:path fill="lighten" w="31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7" h="21600">
                <a:moveTo>
                  <a:pt x="8587" y="3794"/>
                </a:moveTo>
                <a:lnTo>
                  <a:pt x="22600" y="10800"/>
                </a:lnTo>
                <a:lnTo>
                  <a:pt x="8587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" action="ppaction://hlinkshowjump?jump=previousslide"/>
          </p:cNvPr>
          <p:cNvSpPr/>
          <p:nvPr/>
        </p:nvSpPr>
        <p:spPr>
          <a:xfrm>
            <a:off x="1828800" y="617220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10800"/>
                </a:moveTo>
                <a:lnTo>
                  <a:pt x="22606" y="3794"/>
                </a:lnTo>
                <a:lnTo>
                  <a:pt x="2260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>
            <a:hlinkClick r:id="" action="ppaction://hlinkshowjump?jump=endshow"/>
          </p:cNvPr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" action="ppaction://hlinkshowjump?jump=nextslide"/>
          </p:cNvPr>
          <p:cNvSpPr/>
          <p:nvPr/>
        </p:nvSpPr>
        <p:spPr>
          <a:xfrm>
            <a:off x="6019920" y="6172200"/>
            <a:ext cx="990360" cy="685800"/>
          </a:xfrm>
          <a:custGeom>
            <a:avLst/>
            <a:gdLst>
              <a:gd name="textAreaLeft" fmla="*/ 44280 w 990360"/>
              <a:gd name="textAreaRight" fmla="*/ 946080 w 990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87" h="21600">
                <a:moveTo>
                  <a:pt x="0" y="0"/>
                </a:moveTo>
                <a:lnTo>
                  <a:pt x="31187" y="0"/>
                </a:lnTo>
                <a:lnTo>
                  <a:pt x="31187" y="21600"/>
                </a:lnTo>
                <a:lnTo>
                  <a:pt x="0" y="21600"/>
                </a:lnTo>
                <a:close/>
              </a:path>
              <a:path fill="lightenLess" w="31187" h="21600">
                <a:moveTo>
                  <a:pt x="0" y="0"/>
                </a:moveTo>
                <a:lnTo>
                  <a:pt x="31187" y="0"/>
                </a:lnTo>
                <a:lnTo>
                  <a:pt x="29787" y="1400"/>
                </a:lnTo>
                <a:lnTo>
                  <a:pt x="1400" y="1400"/>
                </a:lnTo>
                <a:close/>
              </a:path>
              <a:path fill="darken" w="31187" h="21600">
                <a:moveTo>
                  <a:pt x="31187" y="0"/>
                </a:moveTo>
                <a:lnTo>
                  <a:pt x="31187" y="21600"/>
                </a:lnTo>
                <a:lnTo>
                  <a:pt x="29787" y="20200"/>
                </a:lnTo>
                <a:lnTo>
                  <a:pt x="29787" y="1400"/>
                </a:lnTo>
                <a:close/>
              </a:path>
              <a:path fill="darkenLess" w="31187" h="21600">
                <a:moveTo>
                  <a:pt x="31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7" y="20200"/>
                </a:lnTo>
                <a:close/>
              </a:path>
              <a:path fill="lighten" w="31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7" h="21600">
                <a:moveTo>
                  <a:pt x="8587" y="3794"/>
                </a:moveTo>
                <a:lnTo>
                  <a:pt x="22600" y="10800"/>
                </a:lnTo>
                <a:lnTo>
                  <a:pt x="8587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" action="ppaction://hlinkshowjump?jump=previousslide"/>
          </p:cNvPr>
          <p:cNvSpPr/>
          <p:nvPr/>
        </p:nvSpPr>
        <p:spPr>
          <a:xfrm>
            <a:off x="1828800" y="617220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10800"/>
                </a:moveTo>
                <a:lnTo>
                  <a:pt x="22606" y="3794"/>
                </a:lnTo>
                <a:lnTo>
                  <a:pt x="2260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720" y="1143000"/>
            <a:ext cx="257652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se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ik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oking 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676520" y="1219320"/>
            <a:ext cx="5867280" cy="28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iends, friends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h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do w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" action="ppaction://hlinkshowjump?jump=endshow"/>
          </p:cNvPr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" action="ppaction://hlinkshowjump?jump=nextslide"/>
          </p:cNvPr>
          <p:cNvSpPr/>
          <p:nvPr/>
        </p:nvSpPr>
        <p:spPr>
          <a:xfrm>
            <a:off x="6019920" y="6172200"/>
            <a:ext cx="990360" cy="685800"/>
          </a:xfrm>
          <a:custGeom>
            <a:avLst/>
            <a:gdLst>
              <a:gd name="textAreaLeft" fmla="*/ 44280 w 990360"/>
              <a:gd name="textAreaRight" fmla="*/ 946080 w 990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87" h="21600">
                <a:moveTo>
                  <a:pt x="0" y="0"/>
                </a:moveTo>
                <a:lnTo>
                  <a:pt x="31187" y="0"/>
                </a:lnTo>
                <a:lnTo>
                  <a:pt x="31187" y="21600"/>
                </a:lnTo>
                <a:lnTo>
                  <a:pt x="0" y="21600"/>
                </a:lnTo>
                <a:close/>
              </a:path>
              <a:path fill="lightenLess" w="31187" h="21600">
                <a:moveTo>
                  <a:pt x="0" y="0"/>
                </a:moveTo>
                <a:lnTo>
                  <a:pt x="31187" y="0"/>
                </a:lnTo>
                <a:lnTo>
                  <a:pt x="29787" y="1400"/>
                </a:lnTo>
                <a:lnTo>
                  <a:pt x="1400" y="1400"/>
                </a:lnTo>
                <a:close/>
              </a:path>
              <a:path fill="darken" w="31187" h="21600">
                <a:moveTo>
                  <a:pt x="31187" y="0"/>
                </a:moveTo>
                <a:lnTo>
                  <a:pt x="31187" y="21600"/>
                </a:lnTo>
                <a:lnTo>
                  <a:pt x="29787" y="20200"/>
                </a:lnTo>
                <a:lnTo>
                  <a:pt x="29787" y="1400"/>
                </a:lnTo>
                <a:close/>
              </a:path>
              <a:path fill="darkenLess" w="31187" h="21600">
                <a:moveTo>
                  <a:pt x="31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7" y="20200"/>
                </a:lnTo>
                <a:close/>
              </a:path>
              <a:path fill="lighten" w="31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7" h="21600">
                <a:moveTo>
                  <a:pt x="8587" y="3794"/>
                </a:moveTo>
                <a:lnTo>
                  <a:pt x="22600" y="10800"/>
                </a:lnTo>
                <a:lnTo>
                  <a:pt x="8587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" action="ppaction://hlinkshowjump?jump=previousslide"/>
          </p:cNvPr>
          <p:cNvSpPr/>
          <p:nvPr/>
        </p:nvSpPr>
        <p:spPr>
          <a:xfrm>
            <a:off x="1828800" y="617220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10800"/>
                </a:moveTo>
                <a:lnTo>
                  <a:pt x="22606" y="3794"/>
                </a:lnTo>
                <a:lnTo>
                  <a:pt x="2260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>
            <a:hlinkClick r:id="" action="ppaction://hlinkshowjump?jump=endshow"/>
          </p:cNvPr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" action="ppaction://hlinkshowjump?jump=nextslide"/>
          </p:cNvPr>
          <p:cNvSpPr/>
          <p:nvPr/>
        </p:nvSpPr>
        <p:spPr>
          <a:xfrm>
            <a:off x="6019920" y="6172200"/>
            <a:ext cx="990360" cy="685800"/>
          </a:xfrm>
          <a:custGeom>
            <a:avLst/>
            <a:gdLst>
              <a:gd name="textAreaLeft" fmla="*/ 44280 w 990360"/>
              <a:gd name="textAreaRight" fmla="*/ 946080 w 990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87" h="21600">
                <a:moveTo>
                  <a:pt x="0" y="0"/>
                </a:moveTo>
                <a:lnTo>
                  <a:pt x="31187" y="0"/>
                </a:lnTo>
                <a:lnTo>
                  <a:pt x="31187" y="21600"/>
                </a:lnTo>
                <a:lnTo>
                  <a:pt x="0" y="21600"/>
                </a:lnTo>
                <a:close/>
              </a:path>
              <a:path fill="lightenLess" w="31187" h="21600">
                <a:moveTo>
                  <a:pt x="0" y="0"/>
                </a:moveTo>
                <a:lnTo>
                  <a:pt x="31187" y="0"/>
                </a:lnTo>
                <a:lnTo>
                  <a:pt x="29787" y="1400"/>
                </a:lnTo>
                <a:lnTo>
                  <a:pt x="1400" y="1400"/>
                </a:lnTo>
                <a:close/>
              </a:path>
              <a:path fill="darken" w="31187" h="21600">
                <a:moveTo>
                  <a:pt x="31187" y="0"/>
                </a:moveTo>
                <a:lnTo>
                  <a:pt x="31187" y="21600"/>
                </a:lnTo>
                <a:lnTo>
                  <a:pt x="29787" y="20200"/>
                </a:lnTo>
                <a:lnTo>
                  <a:pt x="29787" y="1400"/>
                </a:lnTo>
                <a:close/>
              </a:path>
              <a:path fill="darkenLess" w="31187" h="21600">
                <a:moveTo>
                  <a:pt x="31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7" y="20200"/>
                </a:lnTo>
                <a:close/>
              </a:path>
              <a:path fill="lighten" w="31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7" h="21600">
                <a:moveTo>
                  <a:pt x="8587" y="3794"/>
                </a:moveTo>
                <a:lnTo>
                  <a:pt x="22600" y="10800"/>
                </a:lnTo>
                <a:lnTo>
                  <a:pt x="8587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" action="ppaction://hlinkshowjump?jump=previousslide"/>
          </p:cNvPr>
          <p:cNvSpPr/>
          <p:nvPr/>
        </p:nvSpPr>
        <p:spPr>
          <a:xfrm>
            <a:off x="1828800" y="617220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10800"/>
                </a:moveTo>
                <a:lnTo>
                  <a:pt x="22606" y="3794"/>
                </a:lnTo>
                <a:lnTo>
                  <a:pt x="2260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29720" y="1143000"/>
            <a:ext cx="257652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se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Just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oking 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4T15:44:59Z</dcterms:created>
  <dc:creator>davisd</dc:creator>
  <dc:description/>
  <dc:language>en-US</dc:language>
  <cp:lastModifiedBy>fdlrs1</cp:lastModifiedBy>
  <dcterms:modified xsi:type="dcterms:W3CDTF">2008-08-07T15:05:14Z</dcterms:modified>
  <cp:revision>41</cp:revision>
  <dc:subject/>
  <dc:title>Slide 1</dc:title>
</cp:coreProperties>
</file>